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3D87-45C7-4B1F-A604-E113B76E19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9D00-3728-4935-BA5C-50590CAC89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1367-9CDB-409E-A7FE-D632803D0E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D39B-D7F1-443A-B270-61640A6D92F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3F2B-6718-4439-8025-6154FB9545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3070-D24E-4FE6-8C59-831CEFFBC9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279A-16FB-4F50-AFF7-744333DCDBA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095E-9811-45A8-9AD3-05D25367E1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A773-3726-4FC7-8417-2DB70BE52C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A5D2-B6C1-4816-8B65-058796E6C6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380B-8F67-4DD1-8EFF-DA29BD90AC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926D-9F67-4085-A2FD-3FED7837F3C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878-CCC2-45AB-B455-B1E0CDBEB65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B786-7F48-4A08-B02E-F55DE027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61C-9A4B-4AF0-A1E8-07277F64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B92-EE13-4B7B-8C18-313879BD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481-DD06-41F9-9C6B-832D7F317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B4C9-E746-48A0-89B5-8A27EE1C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C49-1848-4F97-97B4-B4321611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0639-35AE-4B4F-9397-58E6190E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DEDB-E33D-40E1-BA4D-1CE0D68F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6FE-F42B-4373-A561-220EDA1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0F0-6814-450D-919F-48C5BFB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5CA-E44D-48E5-832D-D4CCCFB2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268-62F9-4BE1-AEA0-9126D99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EDEC-E137-4BCE-8C8B-9864C4DEE4B9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133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Ecosystems and Ecological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t3.gstatic.com/images?q=tbn:ANd9GcQdREgUYiuXKOeczxiwRq2mF-0QW81IleBiwU7If68jECRvHhw&amp;t=1&amp;usg=__V9Xe7xngjl8YG0aEw5F9kAbc434="/>
          <p:cNvPicPr/>
          <p:nvPr/>
        </p:nvPicPr>
        <p:blipFill>
          <a:blip r:embed="rId1"/>
          <a:stretch/>
        </p:blipFill>
        <p:spPr>
          <a:xfrm>
            <a:off x="380880" y="3733920"/>
            <a:ext cx="3760920" cy="2590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http://year5.skola.edu.mt/wp-content/uploads/2009/03/gray-wolves.jpg"/>
          <p:cNvPicPr/>
          <p:nvPr/>
        </p:nvPicPr>
        <p:blipFill>
          <a:blip r:embed="rId2"/>
          <a:stretch/>
        </p:blipFill>
        <p:spPr>
          <a:xfrm>
            <a:off x="4724280" y="3657600"/>
            <a:ext cx="3733920" cy="28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Otters eat sea urchins, which feed on kelp. Without the otters to control urchin populations, undersea kelp forests are being mowed down, scientists warn."/>
          <p:cNvPicPr/>
          <p:nvPr/>
        </p:nvPicPr>
        <p:blipFill>
          <a:blip r:embed="rId1"/>
          <a:stretch/>
        </p:blipFill>
        <p:spPr>
          <a:xfrm>
            <a:off x="304920" y="685800"/>
            <a:ext cx="2438280" cy="2590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divers9aug01"/>
          <p:cNvPicPr/>
          <p:nvPr/>
        </p:nvPicPr>
        <p:blipFill>
          <a:blip r:embed="rId2"/>
          <a:stretch/>
        </p:blipFill>
        <p:spPr>
          <a:xfrm>
            <a:off x="4267080" y="1219320"/>
            <a:ext cx="4422960" cy="502920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1219320" y="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Keystone Species: Ot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" name="Picture 7" descr="a8059"/>
          <p:cNvPicPr/>
          <p:nvPr/>
        </p:nvPicPr>
        <p:blipFill>
          <a:blip r:embed="rId3"/>
          <a:stretch/>
        </p:blipFill>
        <p:spPr>
          <a:xfrm>
            <a:off x="304920" y="3581280"/>
            <a:ext cx="251460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otters-web"/>
          <p:cNvPicPr/>
          <p:nvPr/>
        </p:nvPicPr>
        <p:blipFill>
          <a:blip r:embed="rId1"/>
          <a:stretch/>
        </p:blipFill>
        <p:spPr>
          <a:xfrm>
            <a:off x="5257800" y="457200"/>
            <a:ext cx="3048120" cy="2819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Missing picture"/>
          <p:cNvPicPr/>
          <p:nvPr/>
        </p:nvPicPr>
        <p:blipFill>
          <a:blip r:embed="rId2"/>
          <a:stretch/>
        </p:blipFill>
        <p:spPr>
          <a:xfrm>
            <a:off x="5334120" y="3581280"/>
            <a:ext cx="2741400" cy="2781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5334120" y="457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Frank Wattenbe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12" descr="Californian kelp forest"/>
          <p:cNvPicPr/>
          <p:nvPr/>
        </p:nvPicPr>
        <p:blipFill>
          <a:blip r:embed="rId3"/>
          <a:stretch/>
        </p:blipFill>
        <p:spPr>
          <a:xfrm>
            <a:off x="304920" y="380880"/>
            <a:ext cx="4267080" cy="6191280"/>
          </a:xfrm>
          <a:prstGeom prst="rect">
            <a:avLst/>
          </a:prstGeom>
          <a:ln w="0">
            <a:noFill/>
          </a:ln>
        </p:spPr>
      </p:pic>
      <p:sp>
        <p:nvSpPr>
          <p:cNvPr id="90" name="Line 13"/>
          <p:cNvSpPr/>
          <p:nvPr/>
        </p:nvSpPr>
        <p:spPr>
          <a:xfrm>
            <a:off x="6629400" y="2666880"/>
            <a:ext cx="0" cy="1676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stone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y species which has a large effect on its community or eco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ters are an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are humans…BIG TIME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look at some more examples as hw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se Study: The Acorn Connec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oaktrees"/>
          <p:cNvPicPr/>
          <p:nvPr/>
        </p:nvPicPr>
        <p:blipFill>
          <a:blip r:embed="rId2"/>
          <a:stretch/>
        </p:blipFill>
        <p:spPr>
          <a:xfrm>
            <a:off x="0" y="685800"/>
            <a:ext cx="2895480" cy="269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Acorns"/>
          <p:cNvPicPr/>
          <p:nvPr/>
        </p:nvPicPr>
        <p:blipFill>
          <a:blip r:embed="rId3"/>
          <a:stretch/>
        </p:blipFill>
        <p:spPr>
          <a:xfrm>
            <a:off x="838080" y="4267080"/>
            <a:ext cx="2114640" cy="216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Field mouse nibbling on seed scattered near our campsite dustbin"/>
          <p:cNvPicPr/>
          <p:nvPr/>
        </p:nvPicPr>
        <p:blipFill>
          <a:blip r:embed="rId4"/>
          <a:stretch/>
        </p:blipFill>
        <p:spPr>
          <a:xfrm>
            <a:off x="6324480" y="4495680"/>
            <a:ext cx="2266920" cy="1924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gmothlrv"/>
          <p:cNvPicPr/>
          <p:nvPr/>
        </p:nvPicPr>
        <p:blipFill>
          <a:blip r:embed="rId5"/>
          <a:stretch/>
        </p:blipFill>
        <p:spPr>
          <a:xfrm>
            <a:off x="3581280" y="1447920"/>
            <a:ext cx="2133720" cy="133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Figure 6"/>
          <p:cNvPicPr/>
          <p:nvPr/>
        </p:nvPicPr>
        <p:blipFill>
          <a:blip r:embed="rId6"/>
          <a:stretch/>
        </p:blipFill>
        <p:spPr>
          <a:xfrm>
            <a:off x="6248520" y="1371600"/>
            <a:ext cx="251460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0" descr="ixodesscapularis"/>
          <p:cNvPicPr/>
          <p:nvPr/>
        </p:nvPicPr>
        <p:blipFill>
          <a:blip r:embed="rId1"/>
          <a:stretch/>
        </p:blipFill>
        <p:spPr>
          <a:xfrm>
            <a:off x="3247920" y="2262240"/>
            <a:ext cx="264816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Deer picture (20835 bytes)"/>
          <p:cNvPicPr/>
          <p:nvPr/>
        </p:nvPicPr>
        <p:blipFill>
          <a:blip r:embed="rId2"/>
          <a:stretch/>
        </p:blipFill>
        <p:spPr>
          <a:xfrm>
            <a:off x="3352680" y="1981080"/>
            <a:ext cx="3022560" cy="3962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http://www.ornithology.com/images/BabyBirds_Miller_061705.jpg"/>
          <p:cNvPicPr/>
          <p:nvPr/>
        </p:nvPicPr>
        <p:blipFill>
          <a:blip r:embed="rId3"/>
          <a:stretch/>
        </p:blipFill>
        <p:spPr>
          <a:xfrm>
            <a:off x="0" y="304920"/>
            <a:ext cx="28195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Western Fence Lizard, photographed by Jim Melli"/>
          <p:cNvPicPr/>
          <p:nvPr/>
        </p:nvPicPr>
        <p:blipFill>
          <a:blip r:embed="rId2"/>
          <a:stretch/>
        </p:blipFill>
        <p:spPr>
          <a:xfrm>
            <a:off x="380880" y="457200"/>
            <a:ext cx="4876920" cy="322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Ticks"/>
          <p:cNvPicPr/>
          <p:nvPr/>
        </p:nvPicPr>
        <p:blipFill>
          <a:blip r:embed="rId3"/>
          <a:stretch/>
        </p:blipFill>
        <p:spPr>
          <a:xfrm>
            <a:off x="4495680" y="3733920"/>
            <a:ext cx="4400640" cy="27813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5486400" y="18288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estern Fence Lizar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762120" y="3962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713040" y="6399000"/>
            <a:ext cx="543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urtesy of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American Lyme Disease Foundation (ALDF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)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1447920" y="5181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ult Ticks and nymph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acorn study show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Unit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ving thing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s affect these relation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co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to understand this concept for good natural resource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st know how everything is interconn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to know an ecosystem’s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s structur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nge: how is it changing over ti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ergy Flo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od webs and food chai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food_chain"/>
          <p:cNvPicPr/>
          <p:nvPr/>
        </p:nvPicPr>
        <p:blipFill>
          <a:blip r:embed="rId1"/>
          <a:stretch/>
        </p:blipFill>
        <p:spPr>
          <a:xfrm>
            <a:off x="533520" y="1219320"/>
            <a:ext cx="2971800" cy="5333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trophic_levels_individuals"/>
          <p:cNvPicPr/>
          <p:nvPr/>
        </p:nvPicPr>
        <p:blipFill>
          <a:blip r:embed="rId2"/>
          <a:stretch/>
        </p:blipFill>
        <p:spPr>
          <a:xfrm>
            <a:off x="3876840" y="1219320"/>
            <a:ext cx="4886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FoodWebs"/>
          <p:cNvPicPr/>
          <p:nvPr/>
        </p:nvPicPr>
        <p:blipFill>
          <a:blip r:embed="rId1"/>
          <a:stretch/>
        </p:blipFill>
        <p:spPr>
          <a:xfrm>
            <a:off x="609480" y="1143000"/>
            <a:ext cx="8153640" cy="546732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304920" y="3049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lexity and Interconnected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00:25:04Z</dcterms:created>
  <dc:creator>tosborne</dc:creator>
  <dc:description/>
  <dc:language>en-US</dc:language>
  <cp:lastModifiedBy>Teri Osborne</cp:lastModifiedBy>
  <dcterms:modified xsi:type="dcterms:W3CDTF">2010-09-05T21:17:51Z</dcterms:modified>
  <cp:revision>17</cp:revision>
  <dc:subject/>
  <dc:title>Chapter 6</dc:title>
</cp:coreProperties>
</file>